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2E2-BDAF-4C6F-927D-93EC10A3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182-65E8-4DAC-946B-0B29C4F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ED4-FEBE-4F25-B083-8CE0F8AE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B16-0F19-495D-A8E1-E5B399BD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841-D4E8-4A4C-8F09-16E031BA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D8E-274D-487F-9FBA-E4A61F2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E44-8A1C-4792-8E2D-1BCD52F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FF5-EF81-4BAF-84ED-6D33893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FA8-63A4-4F05-9499-A3B7006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F6C-B714-403C-BEA1-3ACA706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622-23DA-412D-8426-A5C470B9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FC5-C465-4CD7-82C8-B4CA201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0DB-89DC-4869-BFF4-87C75C242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the Tig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alvin Pl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-53352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in the Amazon ju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Amazon Jungle Tours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36436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-10666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're was a tiger named Joh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tiger%20san%20francisco.jpg"/>
          <p:cNvPicPr/>
          <p:nvPr/>
        </p:nvPicPr>
        <p:blipFill>
          <a:blip r:embed="rId1"/>
          <a:stretch/>
        </p:blipFill>
        <p:spPr>
          <a:xfrm>
            <a:off x="2209680" y="1363680"/>
            <a:ext cx="4953240" cy="524016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2"/>
          <a:stretch/>
        </p:blipFill>
        <p:spPr>
          <a:xfrm>
            <a:off x="-99072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ff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did not have a mom or a 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rlv.zcache.com/fantasy_tiger_moon_postcard-p239348921981371637qibm_400.jpg"/>
          <p:cNvPicPr/>
          <p:nvPr/>
        </p:nvPicPr>
        <p:blipFill>
          <a:blip r:embed="rId1"/>
          <a:stretch/>
        </p:blipFill>
        <p:spPr>
          <a:xfrm>
            <a:off x="1905120" y="1600200"/>
            <a:ext cx="5562360" cy="525780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-12952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Johnny met another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english.people.com.cn/200607/17/images/tiger1.jpg"/>
          <p:cNvPicPr/>
          <p:nvPr/>
        </p:nvPicPr>
        <p:blipFill>
          <a:blip r:embed="rId2"/>
          <a:stretch/>
        </p:blipFill>
        <p:spPr>
          <a:xfrm>
            <a:off x="1066680" y="1219320"/>
            <a:ext cx="701064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617220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played and played then they fell in l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4"/>
          <a:stretch/>
        </p:blipFill>
        <p:spPr>
          <a:xfrm>
            <a:off x="-114300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year later they had a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pictures.ezpics.net/Photos/Art/ezpics.net/carrington/ArtCards/4.jpg"/>
          <p:cNvPicPr/>
          <p:nvPr/>
        </p:nvPicPr>
        <p:blipFill>
          <a:blip r:embed="rId2"/>
          <a:stretch/>
        </p:blipFill>
        <p:spPr>
          <a:xfrm>
            <a:off x="314280" y="1295280"/>
            <a:ext cx="511488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english.people.com.cn/200605/24/images/tiger1.jpg"/>
          <p:cNvPicPr/>
          <p:nvPr/>
        </p:nvPicPr>
        <p:blipFill>
          <a:blip r:embed="rId3"/>
          <a:stretch/>
        </p:blipFill>
        <p:spPr>
          <a:xfrm>
            <a:off x="5410080" y="1297080"/>
            <a:ext cx="3733920" cy="496080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4"/>
          <a:stretch/>
        </p:blipFill>
        <p:spPr>
          <a:xfrm>
            <a:off x="-60948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ad four k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api.ning.com/files/Aid2JCwTaiNIBvburuU4ZTFoRNgPa5ppWq470hm5Hw1LnQYfeuDtiFSC6ZoTWQjr4SfUboPYhA2tgfABQ5lFbVRDlt9g7Qgf/two_tigers_468x307.jpg"/>
          <p:cNvPicPr/>
          <p:nvPr/>
        </p:nvPicPr>
        <p:blipFill>
          <a:blip r:embed="rId2"/>
          <a:stretch/>
        </p:blipFill>
        <p:spPr>
          <a:xfrm>
            <a:off x="0" y="1447920"/>
            <a:ext cx="44578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wo tigers"/>
          <p:cNvPicPr/>
          <p:nvPr/>
        </p:nvPicPr>
        <p:blipFill>
          <a:blip r:embed="rId3"/>
          <a:stretch/>
        </p:blipFill>
        <p:spPr>
          <a:xfrm>
            <a:off x="4419720" y="1447920"/>
            <a:ext cx="4724280" cy="296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838080" y="4800600"/>
            <a:ext cx="762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Johnny finally got the family he always wa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orded Sound" descr=""/>
          <p:cNvPicPr/>
          <p:nvPr/>
        </p:nvPicPr>
        <p:blipFill>
          <a:blip r:embed="rId4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9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3" descr=""/>
          <p:cNvPicPr/>
          <p:nvPr/>
        </p:nvPicPr>
        <p:blipFill>
          <a:blip r:embed="rId2"/>
          <a:stretch/>
        </p:blipFill>
        <p:spPr>
          <a:xfrm>
            <a:off x="1755720" y="1700280"/>
            <a:ext cx="5705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42Z</dcterms:created>
  <dc:creator>itsuser</dc:creator>
  <dc:description/>
  <dc:language>en-US</dc:language>
  <cp:lastModifiedBy>itsuser</cp:lastModifiedBy>
  <dcterms:modified xsi:type="dcterms:W3CDTF">2009-04-14T15:51:47Z</dcterms:modified>
  <cp:revision>13</cp:revision>
  <dc:subject/>
  <dc:title>Slide 1</dc:title>
</cp:coreProperties>
</file>